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32C-CDC3-4D6C-BA64-C14C91C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86A-38A9-4973-A99E-B313CD8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71C-CBC0-4C69-BE9D-63C72D2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E5A-A798-47EF-8414-B444E11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B800-B8A3-4F7C-A5BC-F01F0C25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748-4F63-417C-9D72-18143F22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738-0E0D-4DB0-8D75-7B104154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056-17B5-414E-BE5B-9729C66F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7DE6-6614-49AB-A577-293D0B1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911-EB09-496C-BC03-7953C55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3E4C-E2FF-40D7-B95E-347BFFD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926-FFB8-4920-8C29-91719690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7C6B-644E-479F-A402-D270E8D3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F4AD-3B9E-4295-A8E0-AFD2E684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555B-7BC3-4946-A074-D1EBBB2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F01-B33E-4160-85B9-FA571F9A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3D3-FCBF-49C2-AC87-24E92E3B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688-D65C-48D6-8783-C482BAA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A2D-995A-46D7-98E7-66A7CFAC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E39-862F-43D1-9611-2C20B91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E34-A590-499C-A76A-E94850AE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53F-0D3A-46FD-A9B8-F3580F5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115-7429-454D-9B1E-A46C8F3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ED7-353A-4EB3-B1FD-0D81BD1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CEC-5B8A-4120-860D-13DD7BDC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3369-BB17-4A0D-9071-9AB8D769D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Bouncing Ball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 Jing Wei Hu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0 x 1200 rectangula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3200400"/>
          <a:ext cx="7238880" cy="1981080"/>
        </p:xfrm>
        <a:graphic>
          <a:graphicData uri="http://schemas.openxmlformats.org/drawingml/2006/table">
            <a:tbl>
              <a:tblPr/>
              <a:tblGrid>
                <a:gridCol w="1323720"/>
                <a:gridCol w="984240"/>
                <a:gridCol w="987480"/>
                <a:gridCol w="982800"/>
                <a:gridCol w="987480"/>
                <a:gridCol w="984240"/>
                <a:gridCol w="988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010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578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88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2819520"/>
          <a:ext cx="7390800" cy="182880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  <a:gridCol w="1847880"/>
                <a:gridCol w="1847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x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x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 x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8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010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24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578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40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88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inimize the number of ball-to-wall collisions by putting them in a square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Experiment 2: Collision rates with respect to different numbers of balls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size: 600 x 60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b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2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balls (same data from Experiment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90720" y="3200400"/>
          <a:ext cx="7238880" cy="1981080"/>
        </p:xfrm>
        <a:graphic>
          <a:graphicData uri="http://schemas.openxmlformats.org/drawingml/2006/table">
            <a:tbl>
              <a:tblPr/>
              <a:tblGrid>
                <a:gridCol w="1323720"/>
                <a:gridCol w="984240"/>
                <a:gridCol w="987480"/>
                <a:gridCol w="982800"/>
                <a:gridCol w="987480"/>
                <a:gridCol w="984240"/>
                <a:gridCol w="988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2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b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3200400"/>
          <a:ext cx="7238520" cy="1981080"/>
        </p:xfrm>
        <a:graphic>
          <a:graphicData uri="http://schemas.openxmlformats.org/drawingml/2006/table">
            <a:tbl>
              <a:tblPr/>
              <a:tblGrid>
                <a:gridCol w="1323360"/>
                <a:gridCol w="985320"/>
                <a:gridCol w="987120"/>
                <a:gridCol w="982080"/>
                <a:gridCol w="988200"/>
                <a:gridCol w="983880"/>
                <a:gridCol w="988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64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7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4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2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b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3200400"/>
          <a:ext cx="7238520" cy="1981080"/>
        </p:xfrm>
        <a:graphic>
          <a:graphicData uri="http://schemas.openxmlformats.org/drawingml/2006/table">
            <a:tbl>
              <a:tblPr/>
              <a:tblGrid>
                <a:gridCol w="1323360"/>
                <a:gridCol w="985320"/>
                <a:gridCol w="987120"/>
                <a:gridCol w="982080"/>
                <a:gridCol w="988200"/>
                <a:gridCol w="983880"/>
                <a:gridCol w="988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95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64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4159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2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ball-to-wall and ball-to-ball collisions increase as the number of ball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2819520"/>
          <a:ext cx="7390800" cy="182880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  <a:gridCol w="1847880"/>
                <a:gridCol w="1847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ba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ba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ba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64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95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377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64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4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4159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xperiment 3: Collision rates with respect to different initial velocity rang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size: 600 x 60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balls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velocity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 -5,   5]  in each x and y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10, 10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15, 1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3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velocity range : [-5, 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3200400"/>
          <a:ext cx="7238880" cy="1981080"/>
        </p:xfrm>
        <a:graphic>
          <a:graphicData uri="http://schemas.openxmlformats.org/drawingml/2006/table">
            <a:tbl>
              <a:tblPr/>
              <a:tblGrid>
                <a:gridCol w="1323720"/>
                <a:gridCol w="984240"/>
                <a:gridCol w="987480"/>
                <a:gridCol w="982800"/>
                <a:gridCol w="987480"/>
                <a:gridCol w="984240"/>
                <a:gridCol w="988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of this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ball collision rates under  different conditions (paramet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ntainer shap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numbers of balls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itial velocity 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velocity distribution of these b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3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velocity range : [-10, 1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90720" y="3200400"/>
          <a:ext cx="7315200" cy="2114640"/>
        </p:xfrm>
        <a:graphic>
          <a:graphicData uri="http://schemas.openxmlformats.org/drawingml/2006/table">
            <a:tbl>
              <a:tblPr/>
              <a:tblGrid>
                <a:gridCol w="1336680"/>
                <a:gridCol w="996840"/>
                <a:gridCol w="998640"/>
                <a:gridCol w="990360"/>
                <a:gridCol w="1000080"/>
                <a:gridCol w="992520"/>
                <a:gridCol w="100008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9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49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69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3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velocity range : [-15, 1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90720" y="3200400"/>
          <a:ext cx="7315200" cy="1981080"/>
        </p:xfrm>
        <a:graphic>
          <a:graphicData uri="http://schemas.openxmlformats.org/drawingml/2006/table">
            <a:tbl>
              <a:tblPr/>
              <a:tblGrid>
                <a:gridCol w="1338120"/>
                <a:gridCol w="995400"/>
                <a:gridCol w="996840"/>
                <a:gridCol w="992160"/>
                <a:gridCol w="1000080"/>
                <a:gridCol w="993960"/>
                <a:gridCol w="9986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043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06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3550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3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ball-to-wall and ball-to-ball collisions increase as velocity range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90720" y="2819520"/>
          <a:ext cx="7390800" cy="182880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  <a:gridCol w="1847880"/>
                <a:gridCol w="1847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5, 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10, 1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15, 1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9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043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149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506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569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3550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locity Distrib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s’ velocities are changing during the experiment (due to collisions with each oth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alyze the velocity change by plotting the histogram of these balls’ velocities at each time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locity Distribution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ulation verifies that, after certain period of time, the balls’ velocities will follow the Boltzmann distribu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of,  please look up Wiki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histogram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3886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Explo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collision rate is aff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balls are moving in 3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tainer is a triangle or a cir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lls have different radius and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e Space of the Syst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pace: 4 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x and y coordin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(x and y dir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arameter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of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tion Too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game pa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pa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perties of the Syst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s are moving in 2D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s have random initial velo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alls have same radius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s can collide with walls and other b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 during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Experiment 1: The collision rates with respect to different  container shapes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alls (with random initial velocities between –5 to 5) are put in three containers with same area and different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x 600  (pixel x 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x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x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lculate the number of collisions after moving for a day (24*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on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by “second”, I mean it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600%20x%20600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400120" cy="2514600"/>
          </a:xfrm>
          <a:prstGeom prst="rect">
            <a:avLst/>
          </a:prstGeom>
          <a:ln w="0">
            <a:noFill/>
          </a:ln>
        </p:spPr>
      </p:pic>
      <p:pic>
        <p:nvPicPr>
          <p:cNvPr id="143" name="400%20x%20900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3581280" cy="1703520"/>
          </a:xfrm>
          <a:prstGeom prst="rect">
            <a:avLst/>
          </a:prstGeom>
          <a:ln w="0">
            <a:noFill/>
          </a:ln>
        </p:spPr>
      </p:pic>
      <p:pic>
        <p:nvPicPr>
          <p:cNvPr id="144" name="300%20x%201200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4876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 x 600 squar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200400"/>
          <a:ext cx="7315200" cy="1981080"/>
        </p:xfrm>
        <a:graphic>
          <a:graphicData uri="http://schemas.openxmlformats.org/drawingml/2006/table">
            <a:tbl>
              <a:tblPr/>
              <a:tblGrid>
                <a:gridCol w="1336680"/>
                <a:gridCol w="994680"/>
                <a:gridCol w="997560"/>
                <a:gridCol w="993240"/>
                <a:gridCol w="999000"/>
                <a:gridCol w="994680"/>
                <a:gridCol w="9993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74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72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1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 1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0 x 400 rectangula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3200400"/>
          <a:ext cx="7238880" cy="1981080"/>
        </p:xfrm>
        <a:graphic>
          <a:graphicData uri="http://schemas.openxmlformats.org/drawingml/2006/table">
            <a:tbl>
              <a:tblPr/>
              <a:tblGrid>
                <a:gridCol w="1324080"/>
                <a:gridCol w="984960"/>
                <a:gridCol w="986400"/>
                <a:gridCol w="983520"/>
                <a:gridCol w="986400"/>
                <a:gridCol w="984960"/>
                <a:gridCol w="988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8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 to 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624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1440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26:47Z</dcterms:created>
  <dc:creator>Alex</dc:creator>
  <dc:description/>
  <dc:language>en-US</dc:language>
  <cp:lastModifiedBy>Alex</cp:lastModifiedBy>
  <dcterms:modified xsi:type="dcterms:W3CDTF">2008-06-07T12:29:16Z</dcterms:modified>
  <cp:revision>54</cp:revision>
  <dc:subject/>
  <dc:title>Bouncing Balls</dc:title>
</cp:coreProperties>
</file>